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94E2-8FDB-47A4-8B25-FE8D09919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8EA9-C01B-4484-9E8F-4FFFA6595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CD06-1B00-4200-9D57-50722153B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1E6D-F24A-4B11-ADDA-FD0B259CC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64FD6-0551-45F3-B83A-C6A9523AD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C1E5B-9388-404A-8B20-5A2D6CAC2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AF29E-9D42-416B-8D4E-6EC05E343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7E0F0-90E7-4F05-80FB-145EB3AEA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D95C9-3793-42E1-9FBD-FC4C66F84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A259B-96D9-4F58-A835-CEA745556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261CB-FB67-40F2-A15B-47EEF479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21F2-7E81-427E-B85D-099E6B5DE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062AC-343B-4FEE-AF73-F959B0BC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3C36F-3E6B-4969-BE12-3473A771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ED308-970F-4A96-AA70-698D8E089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EF663-C5B5-4882-90B8-4F40DA390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522D2-EAD2-4A91-8AEE-A4B8372CF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70B8-B58F-42BE-BE23-A3D3AC9E1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48F6-6603-4D7E-8917-0C994E9E1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6047-0B07-4DAD-8C54-6765851ED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D525-1863-4BA8-A653-4F1491283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9D2A-2E14-4414-AF87-43960427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3236-D6B6-4A1E-9DD8-DB3922F7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BD44-E5FC-4365-958B-46FE8515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BF901-C224-472C-A6E1-B0393987D72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98360" y="2160360"/>
            <a:ext cx="460836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SYMETRI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39AD8-B638-406D-98D4-25A81062D4A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27000" y="2349360"/>
            <a:ext cx="77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KONSTRUKCJA DWUSIECZNEJ KĄ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DWUSIECZNA KĄ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280" y="1042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06640" y="1267200"/>
            <a:ext cx="73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any jes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kat ABC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. Do konstrukcji dwusiecznej będzie potrzebny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yrkiel i linijka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 rot="2511600">
            <a:off x="6327360" y="2394000"/>
            <a:ext cx="2114640" cy="2386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376280" y="2573280"/>
            <a:ext cx="2070360" cy="203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3402000" y="3564000"/>
          <a:ext cx="2982960" cy="2417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02000" y="3564000"/>
                    <a:ext cx="2982960" cy="24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46280" y="1042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06640" y="1419840"/>
            <a:ext cx="73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Kreślimy cyrklem łuk z wierzchołka ką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086280" y="2286000"/>
            <a:ext cx="1214280" cy="24922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DWUSIECZNA KĄ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267000" y="2664000"/>
          <a:ext cx="2982960" cy="2417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67000" y="2664000"/>
                    <a:ext cx="2982960" cy="24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46280" y="1042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06640" y="1267200"/>
            <a:ext cx="73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W efekcie otrzymujemy kąt z odłożonymi na jego ramionach równymi odcinkami BD i B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DWUSIECZNA KĄ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771640" y="2438280"/>
          <a:ext cx="4094280" cy="331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2438280"/>
                    <a:ext cx="4094280" cy="33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46280" y="1042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06640" y="1267200"/>
            <a:ext cx="73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Kreślimy łuki o jednakowym promieniu i środkach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w punktach E i 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DWUSIECZNA KĄ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860560" y="2368440"/>
          <a:ext cx="4141800" cy="335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60560" y="2368440"/>
                    <a:ext cx="4141800" cy="33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2862360" y="2438280"/>
          <a:ext cx="4093920" cy="331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62360" y="2438280"/>
                    <a:ext cx="4093920" cy="33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746280" y="1042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06640" y="1251360"/>
            <a:ext cx="738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Kreślimy półprostą łączącą wierzchołek kąta i punkt przecięcia się łukó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Jest to dwusieczna kąta AB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DWUSIECZNA KĄ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367000" y="2619360"/>
          <a:ext cx="3824280" cy="310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7000" y="2619360"/>
                    <a:ext cx="3824280" cy="31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 flipH="1">
            <a:off x="2501640" y="3699000"/>
            <a:ext cx="3825720" cy="16207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418440" y="3429000"/>
            <a:ext cx="198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wusieczna ką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25T19:06:22Z</dcterms:modified>
  <cp:revision>154</cp:revision>
  <dc:subject/>
  <dc:title>Slajd 1</dc:title>
</cp:coreProperties>
</file>